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86236"/>
        <c:axId val="88012801"/>
      </c:barChart>
      <c:catAx>
        <c:axId val="23586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2801"/>
        <c:crosses val="autoZero"/>
        <c:auto val="1"/>
        <c:lblAlgn val="ctr"/>
        <c:lblOffset val="100"/>
        <c:noMultiLvlLbl val="0"/>
      </c:catAx>
      <c:valAx>
        <c:axId val="88012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86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C7A-3255-4ECC-9194-49285C2B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4F1-536A-4AF9-AF08-1F6145D0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A51-B2AF-485D-8F09-32A08270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2E8-2F17-45CA-9D80-7899EA94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A56-9933-4CAF-AC3A-99CFAA65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F24-F194-40AE-BED6-8E1EAD2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D2E-A5FA-4953-83E9-B5B6CCF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63D-C305-4047-8229-50AD758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87E-31FE-4700-AA55-C69FED8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D02-862C-4EBA-8C68-E6C41F5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DC7-FF85-4CB0-85E9-5581AAA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973-D15A-45EE-B031-EA5B00A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5F0A5-D9B1-4003-905D-303E6520A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