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75981"/>
        <c:axId val="62411672"/>
      </c:barChart>
      <c:catAx>
        <c:axId val="20275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1672"/>
        <c:crosses val="autoZero"/>
        <c:auto val="1"/>
        <c:lblAlgn val="ctr"/>
        <c:lblOffset val="100"/>
        <c:noMultiLvlLbl val="0"/>
      </c:catAx>
      <c:valAx>
        <c:axId val="62411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75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9D7-76AC-4527-ABAC-D46B6606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849-6E30-4359-A7B6-636D7B8E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0DC-F53D-4359-9C34-EE58EEC7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9E8-40B0-43B0-A98D-C425799F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541-5CC3-4BEA-BB02-A1A64F9C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D42-A206-4001-B140-B71E4E76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673-1AF7-441F-B743-C02A429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25A-BAF2-4BF5-9952-07F5ABF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8DC-03B2-4E52-8C42-0B921FA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9DC-05FF-430C-A9D3-252BDEE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986-9686-4DD3-9FC2-D8FBE8D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4D6-C497-44AA-BF3C-7BEF077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D3AD0-8F8F-41DF-9B8E-9F6A04A53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