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92138"/>
        <c:axId val="85291561"/>
      </c:barChart>
      <c:catAx>
        <c:axId val="67292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1561"/>
        <c:crosses val="autoZero"/>
        <c:auto val="1"/>
        <c:lblAlgn val="ctr"/>
        <c:lblOffset val="100"/>
        <c:noMultiLvlLbl val="0"/>
      </c:catAx>
      <c:valAx>
        <c:axId val="85291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92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1E2-AEFC-471A-BEA7-DD88322A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A06-A9CA-4781-9F41-75D5DB1A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885-FC7B-42F7-B44F-212F2C27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FF9-8759-4D7C-A707-363C93A7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0C6-8904-496B-9CE3-729DE9B9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C09-17CF-4575-AFA5-096C9077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165-B050-4F6B-8E83-4456F18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143-07C4-419F-8E32-1BB8BE0C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54E-726B-4420-A26F-7303AD26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93D-AAE4-47B6-92C5-39898BB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706-E7D8-4965-87CC-F0BFE6D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18F-D9B8-4A3D-A16B-B51C3082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D105A-B420-4AF7-AB09-267AC0EC61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